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CA2-EC5B-4386-81B6-B1034BAE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905-BDED-45D3-A034-885800C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54D00-2767-4DC8-8AD7-0157E26B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3CA63-DDBB-48DA-81FC-5A13184B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E7A3C-DF19-4E29-953A-4A997F8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AAD4-EBC8-4869-B05C-A1BFE62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2DF26-9D9D-4051-9AB3-356F87A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46B44-CFEE-43EF-B005-D8400AB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7DC55-C5D3-4FD0-BB93-331CA82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ABEF1-1503-44D7-893B-49063F62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ED732-8C80-4670-9228-E3D97555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0DE41-50CE-4B91-B265-CDD48BB7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F56-2215-4E4E-8F39-CD477880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E1ABA-0F19-4C99-BAC9-193E9771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D363B-7372-4901-AE45-6CEEA114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328F9-C2AB-4177-A119-C545C16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E7FE9-02C3-4C8E-B6B5-0E783A7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2D7AB-E89E-47AF-A4CB-FBD2A2C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A72A8-ECD9-4990-9A12-DE0B07E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99EE0-0EE6-4C29-96C6-10DE5EF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0CB5B-D5FD-474F-821D-3D8E1A7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0F23F-63DF-42C8-A401-F567BDB4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9402A-7755-476C-9193-308ECBE3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298-D4CB-4A77-A06B-08D78A8A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9C73E-5F0B-49F7-85B8-02498C66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06B68-7E47-4BA5-8287-FAA7FAED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7D192-289C-4D9E-9EDF-4B5DFA3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FD090-0C75-46D4-88F5-C3E5DE1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C533E-6CB1-4602-A3BE-B6FCEF8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A7E87-F4C3-4111-85E6-25CE9E9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C60C8-C636-4E2F-942F-8D148E7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D9F77-B972-4E86-9108-D750687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4F495-41D7-4534-8451-C125E23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7569B-ABF4-4803-B177-8D42D8FE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0669-7B8B-49BE-8963-AA1C2074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F5E8F-F917-4D0E-9F67-CE22380A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E73F7-2067-43D1-8AC1-C9AD3BE0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44642-FD02-43B7-A981-5F1368F4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803BB-DD39-472C-94F4-8853B2DA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1F4AC-0AE6-4AFC-A8F5-45696BC2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5B872-05BB-47D3-B217-70491489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07C00-2075-439A-8D92-7E5702A7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EE48D-7503-4E36-8363-5637674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FE225-7301-4A22-AE98-D9835331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7EED3-8288-4013-8BC0-0772292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583C-9B62-4574-9BDC-5EFC6328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EB4D6-BBA7-470D-A8DC-93AF6FD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4116A-2983-4CB9-AC5A-C7CA741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30CE5-C960-49C7-A49E-F159BDF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94E1A-F82D-4A7A-9DAA-0C11A5C4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F40AE-F1F9-4543-B366-EA754F75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EC9-D37E-4DAF-B7C8-107F0C3C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195-80FF-4F74-87C0-19AA3D3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F532-D0CD-41B1-A209-2CF1D8C4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10F5-0D24-4BF5-86BB-E330164D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53D-FDA6-413C-B1F1-85B839F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6DB-93C9-4AF8-8C47-D9537AAB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720-47D0-4D27-8E9F-79FAFD9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0A88-958D-4479-A31B-EBB86538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E9FD-04F9-4C4E-82B5-9C6B6763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912-840C-4BCC-8470-A827B7DD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B429-421D-4C57-A0FA-00120CC9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D80B-B2E0-4DA9-AF7F-FAFB5E88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2502-E426-4727-9647-77AE3EAA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23F3-B295-4D53-B5BF-61265BAE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289D-508A-40B6-88DB-526A85B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486B-1CBD-457C-89DE-2AA06284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B94-B2DD-4520-B24E-7293651C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B12A-90F9-40A9-A974-DB63613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B797-2A8E-4FFD-A836-495DA98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8AF5-9C80-4EEA-B0A2-06E061E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F80B-FF6E-4AAC-81B6-7374B1E1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4679-6609-420E-9EEC-43D9C4BA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F930-364A-4952-9384-DA5594C3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F982-A382-4481-B424-2762A397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E5C9-4364-4CDB-A20B-7EFA3136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23E4-2320-4193-B7D2-14CC645F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E846-88CB-47EA-A7D5-1F6995E4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96D-8E84-4D2B-886E-C1FF810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F48D-4841-4415-AA91-F638FA2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240D-C16B-418B-AD0A-9ED7A6F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DD83-D848-4660-A8DE-625C9D2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7184-2DF1-4847-8A60-99C4756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BC2A-B4E0-49BC-866A-50FD28A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9BDA-17C2-4849-8D72-618C239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7CA5-5D5A-402B-A7E3-6DC5F008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EB38-50AB-40F4-ACE7-B87C6838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4AE7-A0DC-45B7-94EB-D9609C34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4B96-793B-46F4-946F-E6180198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538-3A90-4387-B2DF-B2E5DD61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C8BC-A98A-4B2E-8297-8C706F5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C239-E2D3-407F-B190-0B0296A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48338-4CEF-4C87-B85D-F1D110D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6C0D-AE7A-43FA-80D8-13E714E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7E52-4CC9-4D1B-9900-D0781AAD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3A772-AA5D-40D9-8A04-C6C7296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0553-36D6-4E57-8213-4D38DA6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A9CC1-8B44-4C83-977E-A72B3A6A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AB1E-11D4-4455-B085-D5B824E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1ECB-E244-42C4-B596-638DDCE4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927-649F-4188-BC5B-B25A51D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0B17-C7F3-488C-8DD8-18BD3893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F74B-3864-496F-8A54-C405321B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875F-1C6A-41DC-B399-FCAEE6AE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6B02-F902-4F70-A357-D13822B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6D60-D37C-418C-A3E5-ADE7C4E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E42F-D56C-4A41-AD91-254D56EE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A0AD-2822-4B70-8603-8BB4CB71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6F1F-1707-442B-B7AC-5F2F88B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EC0F-3BD2-4C3E-A1BC-FF01A84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C3D0-A146-439C-8677-08B7085A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EEE-D51E-4FD6-9292-EBAB5DA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2A1E-58CA-4FA9-A3B4-B6066A21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1479D-0583-41EF-B136-9D386FF6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561C5-BA46-4503-A5E9-CE6162DB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8E6DD-E43F-4B86-9230-74BA6011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54D4-7204-414E-A1C0-762A970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447C2-DBB3-4DDF-808D-DDF8254C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CDB0-AFFA-46E2-9BC1-B9BCCBF8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5CCCB-589B-4BEA-8E45-4551A41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B3D9-3535-4EE8-8520-2BE44797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22682-075A-415D-A7E9-C4511DE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81A-B616-4BD2-A60C-61F1DED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A9FC-20F1-4390-8E29-3310102D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14D3-5A65-45C0-98F2-F0F3F69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1A372-1B19-4E5C-8EF2-7705747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F4A4-07A6-4749-B7CA-73E22806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1432-5288-4BD6-8C0D-548844AB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8A56-4AB4-403B-B9A9-83470175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EC468-BFD0-403B-B32A-F9554613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1D28-2820-4DBA-B8D2-F2BF8F6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78A8-0DF4-4F5F-AA23-DF0A70E4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B33C-AA17-4584-9668-D02FDF91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DE0-4056-4D42-BF09-DD6CDFB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973AF-650F-4C16-B762-AF156CCC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E873-6E67-4C5C-AAFC-37DE4F0A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B318-DE09-45DD-B720-9E3BD3E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3A9C-DCE9-40A4-8F83-EBCCE20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BF56F-DAA6-435B-94C2-6C178039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ADDF1-B868-4BAE-9BA8-2CE5D3A2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EC70F-84B2-4BB6-9929-4B805FEE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34FA1-0E12-42C0-A69F-4CEABDE9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CF2F4-DE7F-4ACE-9228-D7ED1438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5D4F1-9DE5-46E1-B3E4-055DFE2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5DE5-66BC-4D95-9E69-ACA5E02053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2D9-42B4-4907-9007-B4EA2B51B9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DDAA-B229-4697-8392-5D867C35B2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223-47F9-40D5-BD48-6E4501F5F2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ED3C-3363-47FA-8451-38D68793E5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452-6040-46F7-B525-18F32F2E37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1F2-1D7C-4EE5-8F54-FD9A43E713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772E-376A-486B-8C40-2DCEE6DE97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3F4-5FA3-47C9-B78C-4D426B0ACD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741-4307-4B24-AB2C-2492D08ABE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7135-F3F0-4628-9BBB-042DEA4577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644-DC58-4088-833E-D216415846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4 Na kríži miesto mň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miesto mň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el môj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hriechov ma obmy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jeho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ť chcem vždy za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vojím spase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jemu zasvät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Krista na sve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by som bol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ma z hriechu pú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vytrh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Boh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blaho, pokoj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ho sa spolieh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stíšiť bô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o drahšie m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stvo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sa so všetk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zdôver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jím radcom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mojich strastiach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e mi rozum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zvíťaz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ovi podobný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l by so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chosťou, poko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ozdo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preňho prac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ho mil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ížnym ho zvest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neho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37:38Z</dcterms:modified>
  <cp:revision>28</cp:revision>
  <dc:subject/>
  <dc:title>Je veľký náš Pán, on slávy je Kráľ Nech do všetkých strán  spev vrúcnych znie chvál.</dc:title>
</cp:coreProperties>
</file>